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D62-94B3-419C-8119-AC593935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433-8413-43DF-BB8D-E151865E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B49-EBC2-49C6-B81A-AC44C70C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C4B-ADD6-4D1A-8566-F20321A5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7FE-78F0-4D80-A53A-A1D2188B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1270-C3DF-4EB2-BB41-CF1C4EB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228D-8EA2-4611-AC03-B2F086E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C146-4D74-401E-8C4B-077C14A4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C0F-E05A-4029-8FEF-29FECB4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B3C-815C-4480-9698-45CD0F2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C641-B831-4658-8145-1827692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AF3-D76E-44C7-8D7C-82191CA2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6AE-4B24-4670-9EBB-816C097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B6C0-7D7D-474B-99D8-4F36D85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113-1201-4BF7-9736-7843917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8D14-99E9-4C0D-B936-D7C84E5B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D76A-B22F-4B3A-80E4-56AA2258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1500-1B95-47CE-8116-73815034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1D0F-1DE8-43A7-94C4-1A017A8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A697-4993-48A7-A266-6D3D8CF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9B53-F99C-44DD-9749-DDBC018B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C2F9-EE76-466E-B7F7-F3B2E55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A99-22AA-4BC6-90D7-69D6BB6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9BD6-AD02-4241-9C5A-5DB18CB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7604-2DF5-4FAF-8C9E-88F3549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6B27-7EF0-4243-8829-5902933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FC8C-E920-4E5D-9709-0C4D01A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3E46-93FC-43D9-AB00-D7D0982B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82F5-9458-4607-86DF-DF6647E5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1008-98C1-4F54-BECE-8C061B2F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B1D1-0DA7-4194-BC24-FC2200DD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58B1-3B1D-4C58-B74E-BCDC99B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FE3B-C365-489B-8427-2106B94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A14-50B8-42E4-B308-4549630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2040-A131-41B7-A8ED-7915989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E2D3-4612-4A7C-8436-88BB8D0D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6697-8C46-4ACF-AFEC-005220F5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887B-4AEB-4297-B65E-24A26DC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C1BD-9BBA-4376-8E4C-EBB3A1D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01C2-C0B4-4A84-8BC7-EC24A4B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71D4-D537-4252-AE44-6EAC5B46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B303-9CB4-4F8D-81E5-073CE180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7B62-AACB-4F25-9B0E-280DFF49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1127-AB5E-48B4-AD7D-76F4AC40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0B0-BA88-4327-939B-13B57D9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2188-0B26-45B1-A0C2-41D7C6F3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207F-35CF-4155-B98E-E286E2C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6949-40A9-4486-B77E-F0FA2D7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8290-CDD6-4B39-A794-A568D11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BCDE-954F-486D-8666-6A17AAB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182D-BEA8-4BFA-9673-C36F2D2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7E4D-A475-49C4-96B8-06A2DE2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5FE6-E4F2-4232-A56C-7AD0DF0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11D3-EDBA-4480-9E2A-EB618D5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6823-F13A-4B3A-92F8-CAFB947E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DD9-F113-432D-A7F5-3A6597C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892A-D6AD-4EC6-AA6D-42AB7F4A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454D-664C-4DB2-BE10-EE98EA32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6937-6FEA-4355-A5ED-B2852DD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663A-90ED-45E4-9715-FE6896B3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5F3B8-3684-4CC1-8587-0D8C113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6B09-733A-4773-A404-3BD76AB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33C5-9201-4B7B-A982-5203B03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86C2-FE20-4A16-89BA-05DFABB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9C71-C1C5-4BEE-843E-32FC5A9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F0192-11C8-4B7D-8D1A-84842F3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70E-318C-4E03-BAC2-A5BB099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FE75-4181-40CC-A898-AAE727C8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D058D-A7D4-4628-8F62-A9C3FC18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1C1A-32C1-4F26-A818-F8615528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B71F-67B2-4A76-B1B9-DA861936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5480-DAD8-4246-BC2D-DFD14C49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5689-9EBD-4B71-8131-D72FA23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0C4F9-6D4F-4BD1-97D3-531253D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A1C9-4C5E-437C-964D-58E856C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7418-4633-4555-A9FC-C73B209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D9B2-50DE-43AB-BFD7-6590AB2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19B-8055-4E3B-804A-B007A77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7C3B6-F5E5-4FFC-AEE9-9E6F04F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31FF-17FD-4CF2-978C-404794E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0873-883C-4BF2-BAEA-796DA7D3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7801-C484-4523-B8B0-AC8E205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EEB6-D7F4-4EB7-86D1-67EB5C7A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1F8-2CB3-4170-BAC8-706C747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8F1-8E27-4B3A-83E2-3566DAE8268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DF8A-CDD1-49D1-9AD6-98FC9A2B7E9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981A-2224-4420-A812-6320F2F6564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D30-5BF3-4437-AB2E-79E382858B4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652-1E7D-4624-BE70-B281E79C6DD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C38-D328-41BF-9085-B250CA7F9A5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BF0-F80D-4407-A772-EFAA9CA7926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60360" cy="2257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851280" y="404640"/>
            <a:ext cx="2054160" cy="2305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755640" y="492120"/>
            <a:ext cx="24112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September 11</a:t>
            </a:r>
            <a:r>
              <a:rPr b="0" lang="en-GB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 200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00000" y="1773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co-ordinated series of attacks on the USA by al-Qaed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ijackers crashed planes into the twin towers at the World Trade Centre, the Pentagon and Pennsylvan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3,000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e US responded by launching the ‘war against terror’ and invading Afghanista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The New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footage of the second plane crash was seen live by million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se images have become the most documented and watched event in TV histor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mpact of new technolog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t the time news reporting was selective – focused on the powerless victims of the Twin Towe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is emphasised the illegitimacy of the violen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References to the Pentagon and Pennsylvania crash sites were often marginalis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alism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mateur nature of footage gave it VALIDITY and CREDIBILIT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shaky hand held images taken by the public affirmed the reality of the disaste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realism of the event was seen through the prism of disaster movies previously watch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itially it was felt that audiences would no longer be able to derive pleasure from these in the futu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Schwarzenegger’s Collateral Damage was withdrawn from releas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After 9/1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presentations of violence in both fictional and news texts have chang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presentations of New York were also alter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riends (TV) and Spiderman (film) removed images of the twin towers from the New York sky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New York started to be represented in a more complex and less upbeat wa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Day After Tomorrow (2004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24 – series (2001- ) Shift in focus on threat from terrorism rather than threat from crim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910640" y="0"/>
            <a:ext cx="1233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ar Against Terror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fter 9/11 journalists and politicians represented the Western world as involved in a ‘war against terrorism’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is representation has been used as a justification for invasions into Afghanistan and Iraq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creased security measures at airports/bord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093080" y="5313240"/>
            <a:ext cx="20509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ar Against Terr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FLECT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cus on the selectivity of representations of 9/11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‘war on terror’ 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Wars in Afghanistan and Iraq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CONSTRUCTIONI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‘war on terror’ is a product of media representations, constructed through media language and political discourse circulated in the med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ch a perspective suggests a heavy involvement and culpability of the media in politic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New media impa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ew media can offer new outlets for divergent views in contemporary socie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Satellite channels – Al Jazee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ebsites – the Baghdad Blogger, LiveLea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3:51:18Z</dcterms:created>
  <dc:creator>Grainne</dc:creator>
  <dc:description/>
  <dc:language>en-US</dc:language>
  <cp:lastModifiedBy>niall</cp:lastModifiedBy>
  <dcterms:modified xsi:type="dcterms:W3CDTF">2010-10-06T19:21:08Z</dcterms:modified>
  <cp:revision>8</cp:revision>
  <dc:subject/>
  <dc:title>The Media – post 9/11</dc:title>
</cp:coreProperties>
</file>